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DBD25-25AD-4ED5-A836-54223AD8FF3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5880B-F696-4C76-929A-F39FA50F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F1B11-4D9A-430F-AEA8-167D2F1FC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C9A498-9076-40A3-AD16-A543995F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3C703E-AEE2-4D5E-86BD-ECDE8AAC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BEE9A6-1591-452B-ACD5-8086C120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3C2F76-E721-4FAC-B856-7C2B3E4B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60E0CE-3F1C-42DF-8163-5746DF2A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E77F62-5528-45DA-9200-C990F544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7C92C-CAF4-4CB6-9BB3-E779E85EF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5D700-FC53-4049-B394-AD28EBF5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88896F-1545-4165-8CB4-759C4771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E5BB8-A355-4971-80BC-F63F1422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3E9BC8-DD65-4B17-8298-3D796D62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ED431-CAE9-47C5-A3A2-9B5C3489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5AB056-364E-460E-A82E-65BD691F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DA6B69-03ED-485C-9686-AD2E1806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B008C-A4ED-46F8-8A2E-7960E847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A02A4A-8ED2-49A3-9688-5EAC9F8E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7AD08D-4AAD-4FD8-AE74-5C38C0839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7E9C1F-1473-4254-BD05-7F78CBAB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E6F473-F96A-4A7E-AE8C-75AAD60FE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94D877-F429-46B4-A1E0-403B102D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CAC90E-61C4-4EDC-98EE-77D11B3F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E3C0B-3F9E-4D78-ADD3-DF6AA5B7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B6ECD9-C60D-42BB-8729-48D6C428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A5031A-BFB3-4531-B7F9-28B1F1F8C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D88245-4DF9-488B-B713-FE890548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9693D7-3A86-4016-BFB4-F3BAADED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8A3CF0-F732-4104-AAE8-289A7995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3B566D-C28C-403F-9888-1BA4A4CB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F677FC-058B-4FD8-8F6A-79747549B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8E9F-61A6-4428-972F-658B8C0C5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CEF6-461E-4D07-93EC-CB594A18EB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9EB8-7E66-4204-98B7-A5D0098E4A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B351-3FEE-429F-AC04-CBC2A64C6A0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7514-41BA-4C90-8DDA-BC325601DD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FD0C-9650-47C7-A9A9-8D32CD50A8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1D77-6BBC-4B48-A5A5-5A619B8331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3AFD-BF34-43C4-847A-5F17F1EC87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CD4F-AFBC-46AB-AAC0-C9E3FDED4E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F9DD-2387-4416-8D01-B3E28E0826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8EBB-8881-4DC4-8F70-1DAA1176E7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2B565-7B36-4327-8D15-E5D81D939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88DF-5825-4E38-9754-2DCDE31DBFD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BA4F1-F2E9-49B9-8740-0A594215E7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DFBCF-ABF9-4875-9C1B-C935760C87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EEA9F-7804-470E-95AA-4DF3CED118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8CE20-883C-4035-9E0E-4951591DEF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E6738-0F37-4ECA-9F2C-60B740143D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109B8-D5E5-4A38-80D1-BE70F44C9B3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EB750-9DC6-4C1A-B2EE-386019E7E3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8B5F1-DB31-4796-BA40-FD28226CDB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3F842-EFFE-477F-9F01-CA727296216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B9D0B-E2BA-4228-AB98-D51A842D0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5793-2E6D-42B5-BE87-378951501D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D18CC-BFCB-4401-B940-71B66A1341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63FEF-3EBF-498A-827B-DF49576187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2336C-F975-43D5-87EA-162B24CC3A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10B2B-3822-4691-ABA6-617756268A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6F0C6-1A7E-426A-BE12-0F9D714C31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E81B4-CA17-43AF-B8FD-812810214A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00BD1-F89F-431E-9DD9-E77EC4BBC63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DFD19-AEB5-4B5E-90F7-83B22D4D50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1E270-C984-47FA-B628-D49F6ADA7E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92A3C-9C6E-4E4E-8CA6-27A1938A7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FE26-AB8D-47D9-A2CC-DB71550B8A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FC10A-C79F-4015-B8A3-77947B43F3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6EFE1-F908-4360-AD51-58DE490AC5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C3AB7-B047-40F5-BEC6-6E12D3C22B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C901-2A5C-4B89-8C66-FF5B786C76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8876-5AF6-4921-938F-D371911AE2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3AE3-5CA4-408D-B1A8-62C254899A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18FA-0F80-406E-9EE6-7A4347DEAC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3229-1CCA-41B2-A473-16D69A566CF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17DB-DD7B-4CA4-B918-437D7B6A43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EBEE-4487-49C8-BCEC-C25F0B573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477D-02A1-49D8-8190-21DF667C81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3157-2F6B-476E-AA20-CD5138532A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713F-0BD2-489A-9452-69B446C3E8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D625-B50D-4ACA-B947-319EAC15EB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1789-035D-4052-9199-19B1C32923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B84C-0C16-4459-88E0-2887A3D3562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6600D-FF38-41D0-A522-5A4C7F848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32145-FD6C-459A-A191-A2FD52F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8CB7F-18A0-4B59-877F-7A782B4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8D2F1-716F-4922-BB32-A46DCEF6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FF12A-D9DB-446D-BC38-7BB02B44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F7E9-1FA7-461A-8ACB-1C307EB1156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33303-49A9-4140-9DBE-2696FF30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5456B-77E2-4EAB-8E8E-986450F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56B25-23D1-4DBD-9C76-F58206CF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8B723-DB5B-43B5-A695-223576A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0A4FD-02D0-458B-A3FD-5D08265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9EA7C-AC2B-4E9B-B105-530F8FE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CFE64-F9F2-4BE3-B6F6-82B15C653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F9BD-76DE-4EF5-86E5-DC9A1E6A77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FA49-5D17-49EC-BC86-A0D45A361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0EDD-E7B4-454B-9550-718ADE4B31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7258-AA6A-4C18-9F58-661E982D2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ED87-BB23-40A3-B34F-6484C19B6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E8D9-AA2C-4F89-974D-70DDC98DC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5BBC-CC1A-4B83-9458-C81056C06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E374-1F5A-4C1E-A6B7-1849B3A153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FF67-F656-4ED6-848B-A88B9D7B2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88D5-7EFE-4AB8-BC5E-A8B6B6BC93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CAF-C145-4B9A-BA0B-69962047C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24F-3C88-437D-A19E-ECE82B46F1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8E5-CD30-4E51-929B-BF8889477F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D80-679D-4548-9DD0-F9FCCAEB85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311-0B4C-43DD-B936-AC0530385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7A49-0266-43DC-A3AB-BA21E954A5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0C7-639B-4A9E-9DFD-E35BCFBD6D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BB1-8876-469B-8706-310126609D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336-776F-4C82-9335-28D330D7A9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90C-29A6-4ADD-BB2F-AE160BA079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B2B-F084-4835-ACD6-6ABC13768F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D5C-2B13-4438-89B6-0E84D9A30E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75B-47DE-465B-83E7-126E404692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4F35-3CDB-4187-B25B-AEB0DA9910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8D76-96C5-49AA-B9B5-F7DB61AD04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CB71A-2E22-4347-9383-623D79D1B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E451-0D11-4F3F-816A-C0CF39E22D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D076A-7229-4C3F-BEBB-8862F4987C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795A-967F-4181-B65A-A213FE8709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98099-7073-4D2D-B53B-081CC6495C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9800-FBA0-4D9A-BFD9-10B960628E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9D1D4-CEE9-4FCE-987F-E56F671197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1E32-406C-4C09-8525-9939293781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5E552-0F37-428E-B154-F18F60AF83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C2087-787D-4B3A-803D-D160CE21A8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A1D63-8B8B-4129-A345-E9A0776C1F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60EB-B616-4191-BEE4-F042A16F7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A6CF-AA9F-4C6E-A28F-C780ECB4B5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82C4-BFB9-4F7A-99A3-B72C294173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7088-0FC3-464F-A996-6A699A9ABE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01621-6FC3-4E26-869E-573ABA3591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669B9-E6A1-4C5F-8676-3B393D64DFF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1683-75C6-4A6B-85DD-923FD9F97F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FD242-D214-4EF6-AE55-8C037808F2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47684-45FA-4985-B5E0-1AD9A8CFDF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85560-F112-46AE-8D6F-041A804327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7246-E634-418E-81B9-01D174FEFC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E295-4B9D-4321-908C-CB4C4CFD2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F949-99B1-4847-A3C2-DE5431F29E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6C45-8CDC-4661-ACE6-F73F362858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31CD-4FFB-4975-96D9-A27AB33A0D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CFBF-C8B3-410F-BF43-B3C4E4A444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0D9B-9E2D-4A7D-979F-078480814B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63F-827A-4A37-BB51-43DD17DE0E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71A5-130F-4CA5-AE7F-1FCF8D6D06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FD5C-AA83-4A8B-A9CF-02BFAD78764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398-E3F6-4731-952A-4048D3C261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17A-617D-4164-9B07-778B0B6040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119-3365-4B33-94D0-E859837F5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75EA-E79D-4D42-B2A5-01018A2B75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0DA-642D-4EEF-8AFB-39FAFD774A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19B-41E4-4384-A618-FA7B1027C9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79A9-7B6C-4814-9DCE-E610A81C99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F9032-CA97-46FC-B460-CADE1C9AE4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BA394-EA9B-46CF-8F76-727B8724EB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EAE84-39D0-430E-96B6-7856BE4A85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3789B-3D95-4E20-903A-314652FA2B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4CE60-C138-4887-92CE-81298E05F7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412CB-5404-4E94-A296-DB1A80D6CE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8849E-931F-4749-95AD-FE109E72C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9725-F34C-4326-A26A-DE4073BFF5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01F38-2BB9-4862-B8B4-D75FB15E68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614F-486C-4C91-AEC7-2187200561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83C8E-2E09-43B3-9674-B926D999B2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7E550-5E49-4885-8930-3CA61636DA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8971B-FF9B-4F0D-8A2B-89E17207F1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E4150-96BD-4134-8FDE-E66A07D494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F37A8-6FC1-44ED-82EF-4C5172E7BF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94540-0BA7-47E0-94F9-3F66767899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699E3-25CD-4E90-99CF-4152982D0D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7948C-4CCB-4796-BBB9-F2F33558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0A74-EFD8-4A3D-B350-49B0A32822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915C5-3E8C-4ED5-8210-213D85743B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FE513-4333-4DB6-8B2C-2B159D117C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F5538-3F15-4AD9-B18D-BC5791CC37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1EE64-40BE-4883-A6A5-38AD35B4926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E7D16-6885-4476-8304-1E6A878ED2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0AE31-A24C-4FF7-8C1B-DFB46A27A4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A9904-6E5A-41EB-B67C-FD761F1537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BD7F-A3E2-43C4-9513-7CB37BA563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158C-DE47-45B1-B179-4B669565CE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D379-8B64-4CC4-8634-41053FC89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CA4EFE-44B4-4D01-A590-219CD05B8AF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6D0674-F006-43F2-97FC-F0DC9CADD0B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C7D77C-7747-4C78-9D63-B5312BCDF22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CE78A0-22FB-4B1F-8B77-6626F9765A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AB162-2EAC-4244-8896-094EC7700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4B08D-284C-4C08-9503-3E5E51DEF1D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F5C1FA-44E1-43C5-BBB7-A0A30471325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90552-0F5E-44BC-81A4-73F544B2397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434C5B-B537-4B91-BA61-2AF0246A25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F49409-49C6-47FA-B149-C40A8D3446D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1F573-C92A-4B7E-98E0-013305B5CFB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C3F1CB-72B0-4A04-BAB6-F2E3B8C6EF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1B992D-16FD-48C0-85BA-F6AAC715CD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6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7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8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8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9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0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0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1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1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2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3:27Z</dcterms:modified>
  <cp:revision>160</cp:revision>
  <dc:subject/>
  <dc:title>Παρουσίαση του PowerPoint</dc:title>
</cp:coreProperties>
</file>